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E63-AB44-4E1F-970A-162D9578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FE5-385E-4114-93FF-717CABAE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5E5-B1D8-47A7-8972-DFB1F1D9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710-B6F8-4A78-A735-D9C407C7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26A0-8FCE-44A4-AECA-DF26013D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C635-A9E6-4CAF-B0FF-DB61633E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0D35-8D61-4653-AA21-F136EFCB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01D9-E6F4-4510-9FF2-5883E250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99C7-87AD-4608-A887-83FA8218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7EAC-27EC-41E2-8A2F-492AC745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777D-285B-4EAB-B70C-58D9E8C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077-951F-46FF-95B9-71728EF5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CAC2-789D-42AF-9890-76A2B93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EDC7-C35C-4FE2-A2D9-90E869DD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A7C8-3F24-4743-A18F-B4E49E69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4555-DF30-43D6-9FA9-0854264B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9461-5535-48EA-AB3B-19DBFA6E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298-25EB-45F0-BD9F-C7A67F8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8E6-9428-4DBA-93B7-78C68E35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BCF-641C-4523-AACD-862CC169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EE8-477B-4FCB-B796-BE118F56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DE4-390B-4898-A6E1-F4931652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D1A-B1D0-4B1B-92E9-8880799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684-3066-4C39-A672-989AA51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933E-6580-44B8-87F2-845EFDE83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3C58-EA1E-4AF4-AD31-F2FE340B32B7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a School of Belong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A. Le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ve Facto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and environmental safegu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 charismatic teacher/significant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chool success (competenc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elcoming environment (school-wide, class,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edictable and con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o-social skills (the great prote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ilie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:  relationships, emotionally safe (needs-oriented), pro-social cultural norms, feeling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: pro-social skills, perspective, trust, self-competence, altruistic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1st Century Survival Skills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agn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thinking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acros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lity and adap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ve and entrepreneu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oral and writte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ng and analyz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iosity and imagination (empat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pathy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nnate and can it be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lack of empathy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cial Learning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through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praise/private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to all learn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otional Learn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age: what is your definition and how does it impact one’s life jour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otion is learning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were l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ld we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e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you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otion is learning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ing issues of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es and enter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s and Sexu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int/value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are your butt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your 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telligence (EQ) reflects how you respond when under pressure. How do you “manage” your emo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indfulness Training as EQ Train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gaining momentum as a new way to pay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s self-control, reflection, empathy, choice-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ard G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 an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statement this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the group on what is go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Languag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words, phrases or names for processes that help cre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are seeking to promote and bring everyone to the same place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alogu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t of collective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-ended ques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, what, where, when,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and 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feelings and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alogue about the 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take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ing you will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want to know mo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urprise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ere you touch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Pressures Children Fe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y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ing life’s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ing with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fficult Life Situation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edic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unpredic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pectrum for Emotional Safety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-active vs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 vs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vs 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Container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onging:  affiliation, connection,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:  competence, soc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: voice, independence,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: engaged in learning, having healthy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l World Learn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watch the video and write down any reflections you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ilie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0:58:42Z</dcterms:created>
  <dc:creator>David Levine</dc:creator>
  <dc:description/>
  <dc:language>en-US</dc:language>
  <cp:lastModifiedBy>David Levine</cp:lastModifiedBy>
  <dcterms:modified xsi:type="dcterms:W3CDTF">2012-04-26T18:20:42Z</dcterms:modified>
  <cp:revision>10</cp:revision>
  <dc:subject/>
  <dc:title>From Spreadsheets to Heartbeats</dc:title>
</cp:coreProperties>
</file>